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582-4AEB-4BD3-B338-70C8EE4A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D36-7198-4F5C-A77D-852787CA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3F0-A64B-4C65-8B1C-578FFFBE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B31-3435-47BF-9676-B239CDBB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2AD-06FB-4B9C-ADB9-353FB258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1FA-A7D4-4BF5-98A2-A64EC20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479-0C5E-4E03-957E-C886DF8D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010-113A-47A3-9D2C-371D2299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927-57B1-42A5-AE41-B1552FD8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783-BB4B-4ABC-9111-606B5D09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204-4160-4D7B-849E-BF05030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8F3-29EB-4D48-8983-A84AB8A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170C-B702-4782-A599-1A54216E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da.gov/cdrh/present/dia_jan_2000/DIA-Jan-2000-3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rohan.sdsu.edu/~renglish/370/notes/chapt20/magnifying_gl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nnc.org/copcar.gi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Can You Solve a Myste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790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ystery Auth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avid Ad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am J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Gertrude W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oxcar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Lucinda La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Meg MacKint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onald S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ncyclopedia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John Bell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1752480"/>
            <a:ext cx="38862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Judy Del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Pee Wee Sc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Elizabeth Le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nvisible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arolyn Ke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Nancy 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Bruce Hale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het Gec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aul Zi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 in a My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 Det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character (or character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who solves the 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reader and the detective usually have the same information—so you can feel like you’re working to solve the mystery to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 in a My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Susp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 people the detective thinks caused the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re are always more than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808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akes place in a place and time that seem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2238480"/>
            <a:ext cx="3809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The Plo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52680" y="228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lways begins with a puzz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omething is mi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omeone is 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omeone is acting od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lways begins with a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detective doesn’t know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reader doesn’t know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371600"/>
            <a:ext cx="2559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Clu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520" y="3200040"/>
            <a:ext cx="5867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ollow the steps to find the answers to the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 reader also knows the clues and the fun comes in trying to see if you can guess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90800"/>
            <a:ext cx="2401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empus Sans ITC"/>
              </a:rPr>
              <a:t>Red Herring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Mystery writers will sometimes put in fake clues to take you and the detective off the tr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empus Sans ITC"/>
              </a:rPr>
              <a:t>Figuring out the so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Mo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Who has a REASON to commit the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Who was ABLE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commit the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34290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empus Sans ITC"/>
              </a:rPr>
              <a:t>Solu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32763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ysteries always end with the puzzle 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 detective usually explains how the puzzle was solved in the last pages so you can see if you guessed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066680"/>
            <a:ext cx="2286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17:18Z</dcterms:created>
  <dc:creator>paradisj</dc:creator>
  <dc:description/>
  <dc:language>en-US</dc:language>
  <cp:lastModifiedBy>Judith M Paradis</cp:lastModifiedBy>
  <dcterms:modified xsi:type="dcterms:W3CDTF">2006-10-06T18:57:15Z</dcterms:modified>
  <cp:revision>4</cp:revision>
  <dc:subject/>
  <dc:title>Can You Solve a Mystery?</dc:title>
</cp:coreProperties>
</file>